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9DE-53F9-4DA5-893E-D42423F8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2029-F9B6-46A9-8834-1EC0DBC7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284-46F8-4070-B280-98D142E7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B96-E454-46B2-B96E-F379C843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6667-CEEF-4F9D-BABA-310D94C1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ACB1-177C-4CB8-B6F2-199D2621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A948-C2F5-41B6-B2CF-C489651F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3891-E15A-4BED-BBD2-76D9AF80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9140-67A3-4904-A930-55A7D756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72BB-5F71-4B6D-AB26-21D212CC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8A5E-CA09-473C-ADE5-7CB99619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2696-7B96-411B-9DDA-21AD2AED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67FD-F970-4F7D-96F5-BACD29E1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1F40-FCDA-4A55-A02B-C8CC04BC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092F-82FF-4366-A527-537FEFC6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66F9-0C37-48F1-9E82-746667DE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BF3F-6F09-42B5-98EA-298F3D78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B44DA-BBF1-40BA-97E9-2AD21C3D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BDA6-09F3-4E5F-A617-153E030F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6824-0381-4841-9D8B-8EAA263A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119D-961C-49E1-A3DE-7BBFEFD3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6A6DA-9C2B-42C8-8A3E-EC4B512F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5753-153C-4587-9A03-0A665AC2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20AD-6CFE-41F3-AC95-A03A5EE6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A2CC-40C9-48F3-902E-BE487AD8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D5F64-2184-4E11-83D6-D179E9FB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62F4D-9870-48F6-B3E8-43BAD820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258F-448D-41F1-B451-96294C32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736E-141F-4A36-B9F5-308F1625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2F19-5A6F-476B-9F1D-DC1A7DFA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FD23D-239D-493F-8B21-612DEE6D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5C25D-3C14-45D3-89D6-93882215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21349-E834-4E05-8647-0A59AC92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3EE-0688-45BD-8415-FA6C70AD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E6CE9-090D-4113-85ED-954DBCDB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51520-75A9-44D8-94D2-4AAB3D3D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56B6-6D55-47B3-88F7-1D58C1E2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5D433-E1CD-4219-8B83-4512FA3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1F82-9274-466E-B684-9228315B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6DD64-C8C0-463A-A848-8C5E2B6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6C412-3B1A-4AA7-A94B-4827687E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CA0E-4637-42A8-8CF5-708CF0C0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BEA86-0C30-49FF-8521-ED4F812B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EFF-B959-418A-BA08-F7A53020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351-B5FF-42E7-8F11-3A91E7C0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A85-6BFD-441C-B8B0-4E7B8B02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29A-BACA-4055-8638-B295CEFF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CFB-B7A5-4A8B-BAF9-C793D739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33BE-E463-4B3D-BE69-589ADEE3A98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A451-839C-405B-98BD-647229F2015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DE1A-ACAC-4EA0-98E3-3A2F81EC887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3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3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3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8C0F-1836-425B-AF87-37D1D3BF82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88640"/>
            <a:ext cx="8305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ASO DE PRESCRIPC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122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KLM S.A. ha sido seleccionada para una fiscalización, en el Impuesto sobre la Renta, del período fiscal 2019.  Debido a lo anterior, la Administración Tributaria le ha notificado en su domicilio fiscal, el Inicio de Actuación Definitiva, el 15 de junio de 2020 y el resultado del acto administrativo determinativo, producto de este proceso, se notificó el 24 de setiembre de 2020, generando una diferencia de impuesto por pagar de ¢13.875.000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acuerdo a la normativa y lo analizado en la clase, indique en qué fecha prescribe la obligación original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é causas de interrupción de la prescripción se da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dique si la Administración está facultada para realizar estas actuaciones, justifique su respuest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ASO DE PRESCRIPCIO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echo Azul S.A. se dedica a la comercialización de productos gravados con el Impuesto al Valor Agregado, por lo que con frecuencia genera saldos a favor en ese impuesto. En la declaración del mes de noviembre de 2019, la cual fue presentada el 12-12-19, generó un saldo por ¢ 5.900.000.  Esta misma declaración fue rectificada el 18-05-2020, con un saldo a favor de ¢3.650.000. La contribuyente presenta solicitud de devolución, el 23-10-202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requiere lo sigui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dique en qué fecha prescribe la obligación origi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Qué causas de interrupción de la prescripción se d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dique la fecha de interrupción y el cómputo del nuevo plaz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fiérase a la procedencia de la devolución y si se trata de un pago debido o indebido. Justifique su respuesta.  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26:20Z</dcterms:created>
  <dc:creator>MMG</dc:creator>
  <dc:description>Sesión 4</dc:description>
  <dc:language>en-US</dc:language>
  <cp:lastModifiedBy>Marianela Monge Granados</cp:lastModifiedBy>
  <dcterms:modified xsi:type="dcterms:W3CDTF">2022-06-08T01:38:57Z</dcterms:modified>
  <cp:revision>238</cp:revision>
  <dc:subject/>
  <dc:title>Extinción de la obligación tribut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2EEA6307D80F14BAB3957142425D0C0</vt:lpwstr>
  </property>
</Properties>
</file>